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149-7103-445D-9211-ADE55CAB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914-7D37-4C3C-90D7-CBAC6386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96B-F331-4117-B2E6-DEFB8E88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21E-6EDD-4B76-865D-A289470E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D0E-9619-444D-86B8-0F837D06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0E3-89AF-4E7B-9BFA-C5594B5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B98-B16F-4627-9265-AE79C03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B34-5AEF-4D92-BA2D-1D46F4B0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A1A-311D-4580-A608-BD982B4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E1A-531F-4208-987B-38E2CB97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147-CFBD-4AF1-8465-4D1546B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2BD-D9AB-4892-AB29-6ADD2E4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143A-83D8-4DDD-B1FD-D9B135814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rmummy.com/index.ht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ile%20Delta"/>
          <p:cNvPicPr/>
          <p:nvPr/>
        </p:nvPicPr>
        <p:blipFill>
          <a:blip r:embed="rId2"/>
          <a:stretch/>
        </p:blipFill>
        <p:spPr>
          <a:xfrm>
            <a:off x="400212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0" y="0"/>
            <a:ext cx="3886200" cy="120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10- 7 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1219320"/>
            <a:ext cx="3865680" cy="2442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0-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the picture of the Nile River taken from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What does the Nile River look like t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 you think this green area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Nakht and his Wife, Holding a Water Lily to Breath in its Fragrence with Offerings of the Flower"/>
          <p:cNvPicPr/>
          <p:nvPr/>
        </p:nvPicPr>
        <p:blipFill>
          <a:blip r:embed="rId3"/>
          <a:stretch/>
        </p:blipFill>
        <p:spPr>
          <a:xfrm>
            <a:off x="762120" y="3976560"/>
            <a:ext cx="243828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The Sons of Horus on a Blue Water Lily, Before Osiris"/>
          <p:cNvPicPr/>
          <p:nvPr/>
        </p:nvPicPr>
        <p:blipFill>
          <a:blip r:embed="rId4"/>
          <a:stretch/>
        </p:blipFill>
        <p:spPr>
          <a:xfrm>
            <a:off x="4038480" y="4468680"/>
            <a:ext cx="1752840" cy="2389320"/>
          </a:xfrm>
          <a:prstGeom prst="rect">
            <a:avLst/>
          </a:prstGeom>
          <a:ln w="0">
            <a:noFill/>
          </a:ln>
        </p:spPr>
      </p:pic>
      <p:sp>
        <p:nvSpPr>
          <p:cNvPr id="46" name="Line 16"/>
          <p:cNvSpPr/>
          <p:nvPr/>
        </p:nvSpPr>
        <p:spPr>
          <a:xfrm flipV="1">
            <a:off x="3581280" y="27432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144792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6172200" y="617220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ok on p. 95 to see picture of desert meets fertile valle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Mummy Joke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6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.  Q: Why did the mummy leave his tomb after 1000 years 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Because he thought he was old enough to leave home 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. Q: Why were ancient Egyptian children confused 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Because their daddies were mummies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ere do mummies go for a swim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To the dead sea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y was the mummy so tens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He was all wound up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y don't mummies take vacation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They're afraid they'll relax and unwin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y couldn’t the mummy come outside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Because he was all wrapped up!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: What is a Mummies' favorite type of music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: Wrap!!!!!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80880" y="1647720"/>
            <a:ext cx="205740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93840" y="2687760"/>
            <a:ext cx="250956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5040" y="3686040"/>
            <a:ext cx="360540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84120" y="4913280"/>
            <a:ext cx="3237120" cy="44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01760" y="6116760"/>
            <a:ext cx="2046240" cy="29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203800" y="1730520"/>
            <a:ext cx="350532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181480" y="2921040"/>
            <a:ext cx="365760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Dr. Mumm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1828800"/>
            <a:ext cx="1324080" cy="155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animated Egypt"/>
          <p:cNvPicPr/>
          <p:nvPr/>
        </p:nvPicPr>
        <p:blipFill>
          <a:blip r:embed="rId4"/>
          <a:stretch/>
        </p:blipFill>
        <p:spPr>
          <a:xfrm>
            <a:off x="5867280" y="4495680"/>
            <a:ext cx="1600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urn on Computer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UT do not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log in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7:51:36Z</dcterms:created>
  <dc:creator>Selena Ramsey</dc:creator>
  <dc:description/>
  <dc:language>en-US</dc:language>
  <cp:lastModifiedBy>poweruser</cp:lastModifiedBy>
  <dcterms:modified xsi:type="dcterms:W3CDTF">2011-10-07T20:05:41Z</dcterms:modified>
  <cp:revision>462</cp:revision>
  <dc:subject/>
  <dc:title>Agenda Sept. 6, 2005</dc:title>
</cp:coreProperties>
</file>